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E98-2A72-4051-B020-7F7A48E0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765080"/>
            <a:ext cx="81010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4371120"/>
            <a:ext cx="81010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A8B-D11A-48A3-B4D7-397C6105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76508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76508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437112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437112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7F5-618B-4BA6-8414-45969417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765080"/>
            <a:ext cx="26082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765080"/>
            <a:ext cx="26082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765080"/>
            <a:ext cx="26082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4371120"/>
            <a:ext cx="26082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371120"/>
            <a:ext cx="26082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4371120"/>
            <a:ext cx="26082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5434-11F2-493C-8A10-CF7B0821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765080"/>
            <a:ext cx="810108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4A9-350F-4A42-BB19-148CC05B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765080"/>
            <a:ext cx="810108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A57-0564-46C6-8E19-2B621196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765080"/>
            <a:ext cx="39531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765080"/>
            <a:ext cx="39531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6BC-2AD6-47C6-B845-F4B9FF9B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C27-D3DE-421C-8598-7B06620E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303120"/>
            <a:ext cx="81010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F40-D66F-4D84-A42B-8BFF3F4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76508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765080"/>
            <a:ext cx="39531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437112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7E3-FA2B-41D2-A1F3-F3E15192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765080"/>
            <a:ext cx="395316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76508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437112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C03-DF64-4D32-A661-6B0115DA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76508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765080"/>
            <a:ext cx="395316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4371120"/>
            <a:ext cx="810108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ACC-8EE8-4C09-B06D-B63A417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303120"/>
            <a:ext cx="810108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8920" y="1765080"/>
            <a:ext cx="8101080" cy="49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1280" indent="-4312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576000" indent="57600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15200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57600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592000" indent="-28764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8764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592000" indent="-287640">
              <a:spcBef>
                <a:spcPts val="125"/>
              </a:spcBef>
              <a:buClr>
                <a:srgbClr val="000000"/>
              </a:buClr>
              <a:buFont typeface="Arial"/>
              <a:buChar char="»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7008840"/>
            <a:ext cx="210024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5FC-2BCB-4F66-956A-CE133BB94DC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7008840"/>
            <a:ext cx="285084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7008840"/>
            <a:ext cx="210024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2B1D-09A9-4389-8B9D-CD12BC21140A}" type="slidenum">
              <a:rPr b="0" lang="zh-CN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482760" y="1254240"/>
            <a:ext cx="2955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各博士后流动站组织资格审查，结果报校博管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471600" y="1736640"/>
            <a:ext cx="295596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校博管办审核材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482760" y="2216160"/>
            <a:ext cx="2955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各博士后流动站组织进站答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482760" y="2697120"/>
            <a:ext cx="2955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答辩结果报校博管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471600" y="3178080"/>
            <a:ext cx="295596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上校长办公会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党委常委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482760" y="3672000"/>
            <a:ext cx="2955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各博士后流动站带领去体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直接箭头连接符 26"/>
          <p:cNvCxnSpPr/>
          <p:nvPr/>
        </p:nvCxnSpPr>
        <p:spPr>
          <a:xfrm flipH="1">
            <a:off x="1985400" y="5824080"/>
            <a:ext cx="5400" cy="253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8" name="TextBox 12"/>
          <p:cNvSpPr/>
          <p:nvPr/>
        </p:nvSpPr>
        <p:spPr>
          <a:xfrm>
            <a:off x="482760" y="5099040"/>
            <a:ext cx="2955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办理入职手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482760" y="5581800"/>
            <a:ext cx="2955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兑现待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72"/>
          <p:cNvSpPr/>
          <p:nvPr/>
        </p:nvSpPr>
        <p:spPr>
          <a:xfrm>
            <a:off x="3879720" y="5581800"/>
            <a:ext cx="4567320" cy="246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拿到博士学历学位证书、报到入职、人事档案到校后，发放科研启动经费。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303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办公室，高杉、陈晨。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来校工作后，发放工资，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106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办公室，董婧婧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73040" y="6064200"/>
            <a:ext cx="295596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年度考核、中期考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73040" y="6545160"/>
            <a:ext cx="295596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出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5"/>
          <p:cNvSpPr/>
          <p:nvPr/>
        </p:nvSpPr>
        <p:spPr>
          <a:xfrm>
            <a:off x="3886200" y="4137120"/>
            <a:ext cx="4554360" cy="246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303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办公室，陈晨、高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898800" y="2036880"/>
            <a:ext cx="4546800" cy="246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组织专家组答辩（校人事处相关人员列席）。考核组成员不少于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人（不包括校人事处相关人员），需具备正高职称、博导，考核内容包括思想政治、科研能力等。根据考核结果拟定待遇，并经专家签字确认留存备案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482760" y="774720"/>
            <a:ext cx="2955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向各博士后流动站提交申请，拟定合作导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482760" y="4618080"/>
            <a:ext cx="2955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网上审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"/>
          <p:cNvSpPr/>
          <p:nvPr/>
        </p:nvSpPr>
        <p:spPr>
          <a:xfrm>
            <a:off x="3236760" y="17316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博士后进站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接箭头连接符 118"/>
          <p:cNvCxnSpPr/>
          <p:nvPr/>
        </p:nvCxnSpPr>
        <p:spPr>
          <a:xfrm flipH="1">
            <a:off x="1985400" y="1006200"/>
            <a:ext cx="1080" cy="253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9" name="直接箭头连接符 119"/>
          <p:cNvCxnSpPr/>
          <p:nvPr/>
        </p:nvCxnSpPr>
        <p:spPr>
          <a:xfrm flipH="1">
            <a:off x="1985400" y="1493640"/>
            <a:ext cx="5400" cy="253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0" name="直接箭头连接符 120"/>
          <p:cNvCxnSpPr/>
          <p:nvPr/>
        </p:nvCxnSpPr>
        <p:spPr>
          <a:xfrm flipH="1">
            <a:off x="1985400" y="1976040"/>
            <a:ext cx="5400" cy="253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1" name="直接箭头连接符 121"/>
          <p:cNvCxnSpPr/>
          <p:nvPr/>
        </p:nvCxnSpPr>
        <p:spPr>
          <a:xfrm flipH="1">
            <a:off x="1985400" y="2457000"/>
            <a:ext cx="5400" cy="253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2" name="直接箭头连接符 122"/>
          <p:cNvCxnSpPr/>
          <p:nvPr/>
        </p:nvCxnSpPr>
        <p:spPr>
          <a:xfrm flipH="1">
            <a:off x="1985400" y="2938320"/>
            <a:ext cx="5400" cy="2534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3" name="直接箭头连接符 123"/>
          <p:cNvCxnSpPr/>
          <p:nvPr/>
        </p:nvCxnSpPr>
        <p:spPr>
          <a:xfrm flipH="1">
            <a:off x="1985400" y="3419280"/>
            <a:ext cx="5400" cy="253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4" name="直接箭头连接符 124"/>
          <p:cNvCxnSpPr/>
          <p:nvPr/>
        </p:nvCxnSpPr>
        <p:spPr>
          <a:xfrm flipH="1">
            <a:off x="1985400" y="3900240"/>
            <a:ext cx="5400" cy="253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5" name="直接箭头连接符 125"/>
          <p:cNvCxnSpPr/>
          <p:nvPr/>
        </p:nvCxnSpPr>
        <p:spPr>
          <a:xfrm flipH="1">
            <a:off x="1985400" y="4858920"/>
            <a:ext cx="5400" cy="253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6" name="直接箭头连接符 126"/>
          <p:cNvCxnSpPr/>
          <p:nvPr/>
        </p:nvCxnSpPr>
        <p:spPr>
          <a:xfrm flipH="1">
            <a:off x="1985400" y="5343120"/>
            <a:ext cx="5400" cy="2516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67" name="直接箭头连接符 128"/>
          <p:cNvCxnSpPr/>
          <p:nvPr/>
        </p:nvCxnSpPr>
        <p:spPr>
          <a:xfrm flipH="1">
            <a:off x="1974240" y="6303600"/>
            <a:ext cx="5400" cy="25308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68" name="TextBox 12"/>
          <p:cNvSpPr/>
          <p:nvPr/>
        </p:nvSpPr>
        <p:spPr>
          <a:xfrm>
            <a:off x="482760" y="4140360"/>
            <a:ext cx="2955600" cy="2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体检合格签订合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直接箭头连接符 130"/>
          <p:cNvCxnSpPr/>
          <p:nvPr/>
        </p:nvCxnSpPr>
        <p:spPr>
          <a:xfrm flipH="1">
            <a:off x="1985400" y="4381200"/>
            <a:ext cx="5400" cy="251640"/>
          </a:xfrm>
          <a:prstGeom prst="straightConnector1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0" name="文本框 131"/>
          <p:cNvSpPr/>
          <p:nvPr/>
        </p:nvSpPr>
        <p:spPr>
          <a:xfrm>
            <a:off x="3900600" y="773280"/>
            <a:ext cx="4573440" cy="39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流动站联系人：药学站 严尚学：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18900518056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；公卫站 万宇辉：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13955189826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临床医学站 盛吉莉：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15856977216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；基础医学站 江国林：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139667368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5"/>
          <p:cNvSpPr/>
          <p:nvPr/>
        </p:nvSpPr>
        <p:spPr>
          <a:xfrm>
            <a:off x="3894120" y="1274760"/>
            <a:ext cx="4557600" cy="246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提供纸质版和纸质版扫描成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PDF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电子版材料：博士毕业证书、学位证书；简历；个人业绩证明材料；论文检索报告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；个人申请书（个人简介、申请进入的流动站、合作导师、科研业绩、配偶及子女等情况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5"/>
          <p:cNvSpPr/>
          <p:nvPr/>
        </p:nvSpPr>
        <p:spPr>
          <a:xfrm>
            <a:off x="3838680" y="2697120"/>
            <a:ext cx="45561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进站考核意见表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（附件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人才情况一览表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（附件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考察表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（附件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）、推荐信（附件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，共需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封，一封为博士生导师推荐，另一封为同行推荐）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电子版和纸质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4"/>
          <p:cNvSpPr/>
          <p:nvPr/>
        </p:nvSpPr>
        <p:spPr>
          <a:xfrm>
            <a:off x="3886200" y="4441680"/>
            <a:ext cx="4565520" cy="24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登陆中国博士后网站（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http://www.chinapostdoctor.org.cn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），选择博士后进出站版块，完成个人入站申请，确认后提交博士后流动站审核，并告知各流动站联系人。网上审批结束后，进站备案证明交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303</a:t>
            </a:r>
            <a:r>
              <a:rPr b="0" sz="1000" spc="-1" strike="noStrike">
                <a:solidFill>
                  <a:srgbClr val="000000"/>
                </a:solidFill>
                <a:latin typeface="黑体"/>
                <a:ea typeface="黑体"/>
              </a:rPr>
              <a:t>办公室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5"/>
          <p:cNvSpPr/>
          <p:nvPr/>
        </p:nvSpPr>
        <p:spPr>
          <a:xfrm>
            <a:off x="3898800" y="5102280"/>
            <a:ext cx="4554720" cy="246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301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办公室，袁梦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2"/>
          <p:cNvSpPr/>
          <p:nvPr/>
        </p:nvSpPr>
        <p:spPr>
          <a:xfrm>
            <a:off x="3898800" y="6062760"/>
            <a:ext cx="4565880" cy="246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提交博士后研究人员年度考核登记表；博士后研究人员年度考核情况一览表（专家签字版），详见附件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直接箭头连接符 4"/>
          <p:cNvCxnSpPr/>
          <p:nvPr/>
        </p:nvCxnSpPr>
        <p:spPr>
          <a:xfrm>
            <a:off x="3454200" y="893520"/>
            <a:ext cx="432360" cy="5400"/>
          </a:xfrm>
          <a:prstGeom prst="straightConnector1">
            <a:avLst/>
          </a:prstGeom>
          <a:ln w="12600">
            <a:solidFill>
              <a:srgbClr val="385d8a"/>
            </a:solidFill>
            <a:prstDash val="sysDot"/>
            <a:round/>
            <a:tailEnd len="med" type="triangle" w="med"/>
          </a:ln>
        </p:spPr>
      </p:cxnSp>
      <p:cxnSp>
        <p:nvCxnSpPr>
          <p:cNvPr id="77" name="直接箭头连接符 6"/>
          <p:cNvCxnSpPr/>
          <p:nvPr/>
        </p:nvCxnSpPr>
        <p:spPr>
          <a:xfrm>
            <a:off x="3450960" y="1374480"/>
            <a:ext cx="432360" cy="5400"/>
          </a:xfrm>
          <a:prstGeom prst="straightConnector1">
            <a:avLst/>
          </a:prstGeom>
          <a:ln w="12600">
            <a:solidFill>
              <a:srgbClr val="385d8a"/>
            </a:solidFill>
            <a:prstDash val="sysDot"/>
            <a:round/>
            <a:tailEnd len="med" type="triangle" w="med"/>
          </a:ln>
        </p:spPr>
      </p:cxnSp>
      <p:cxnSp>
        <p:nvCxnSpPr>
          <p:cNvPr id="78" name="直接箭头连接符 7"/>
          <p:cNvCxnSpPr/>
          <p:nvPr/>
        </p:nvCxnSpPr>
        <p:spPr>
          <a:xfrm>
            <a:off x="3450960" y="2336400"/>
            <a:ext cx="432360" cy="5400"/>
          </a:xfrm>
          <a:prstGeom prst="straightConnector1">
            <a:avLst/>
          </a:prstGeom>
          <a:ln w="12600">
            <a:solidFill>
              <a:srgbClr val="385d8a"/>
            </a:solidFill>
            <a:prstDash val="sysDot"/>
            <a:round/>
            <a:tailEnd len="med" type="triangle" w="med"/>
          </a:ln>
        </p:spPr>
      </p:cxnSp>
      <p:cxnSp>
        <p:nvCxnSpPr>
          <p:cNvPr id="79" name="直接箭头连接符 8"/>
          <p:cNvCxnSpPr/>
          <p:nvPr/>
        </p:nvCxnSpPr>
        <p:spPr>
          <a:xfrm>
            <a:off x="3450960" y="2817360"/>
            <a:ext cx="432360" cy="5400"/>
          </a:xfrm>
          <a:prstGeom prst="straightConnector1">
            <a:avLst/>
          </a:prstGeom>
          <a:ln w="12600">
            <a:solidFill>
              <a:srgbClr val="385d8a"/>
            </a:solidFill>
            <a:prstDash val="sysDot"/>
            <a:round/>
            <a:tailEnd len="med" type="triangle" w="med"/>
          </a:ln>
        </p:spPr>
      </p:cxnSp>
      <p:cxnSp>
        <p:nvCxnSpPr>
          <p:cNvPr id="80" name="直接箭头连接符 9"/>
          <p:cNvCxnSpPr/>
          <p:nvPr/>
        </p:nvCxnSpPr>
        <p:spPr>
          <a:xfrm>
            <a:off x="3457440" y="4260600"/>
            <a:ext cx="434160" cy="3960"/>
          </a:xfrm>
          <a:prstGeom prst="straightConnector1">
            <a:avLst/>
          </a:prstGeom>
          <a:ln w="12600">
            <a:solidFill>
              <a:srgbClr val="385d8a"/>
            </a:solidFill>
            <a:prstDash val="sysDot"/>
            <a:round/>
            <a:tailEnd len="med" type="triangle" w="med"/>
          </a:ln>
        </p:spPr>
      </p:cxnSp>
      <p:cxnSp>
        <p:nvCxnSpPr>
          <p:cNvPr id="81" name="直接箭头连接符 12"/>
          <p:cNvCxnSpPr/>
          <p:nvPr/>
        </p:nvCxnSpPr>
        <p:spPr>
          <a:xfrm>
            <a:off x="3454200" y="4741560"/>
            <a:ext cx="432360" cy="54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  <p:cxnSp>
        <p:nvCxnSpPr>
          <p:cNvPr id="82" name="直接箭头连接符 14"/>
          <p:cNvCxnSpPr/>
          <p:nvPr/>
        </p:nvCxnSpPr>
        <p:spPr>
          <a:xfrm>
            <a:off x="3457440" y="5222520"/>
            <a:ext cx="434160" cy="54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  <p:cxnSp>
        <p:nvCxnSpPr>
          <p:cNvPr id="83" name="直接箭头连接符 15"/>
          <p:cNvCxnSpPr/>
          <p:nvPr/>
        </p:nvCxnSpPr>
        <p:spPr>
          <a:xfrm>
            <a:off x="3438360" y="5703480"/>
            <a:ext cx="434160" cy="54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  <p:cxnSp>
        <p:nvCxnSpPr>
          <p:cNvPr id="84" name="直接箭头连接符 16"/>
          <p:cNvCxnSpPr/>
          <p:nvPr/>
        </p:nvCxnSpPr>
        <p:spPr>
          <a:xfrm>
            <a:off x="3450960" y="6183000"/>
            <a:ext cx="432360" cy="54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  <p:cxnSp>
        <p:nvCxnSpPr>
          <p:cNvPr id="85" name="直接箭头连接符 1"/>
          <p:cNvCxnSpPr/>
          <p:nvPr/>
        </p:nvCxnSpPr>
        <p:spPr>
          <a:xfrm>
            <a:off x="3474720" y="893520"/>
            <a:ext cx="432360" cy="54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  <p:cxnSp>
        <p:nvCxnSpPr>
          <p:cNvPr id="86" name="直接箭头连接符 2"/>
          <p:cNvCxnSpPr/>
          <p:nvPr/>
        </p:nvCxnSpPr>
        <p:spPr>
          <a:xfrm>
            <a:off x="3471840" y="1374480"/>
            <a:ext cx="432720" cy="54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  <p:cxnSp>
        <p:nvCxnSpPr>
          <p:cNvPr id="87" name="直接箭头连接符 3"/>
          <p:cNvCxnSpPr/>
          <p:nvPr/>
        </p:nvCxnSpPr>
        <p:spPr>
          <a:xfrm>
            <a:off x="3471840" y="2336400"/>
            <a:ext cx="432720" cy="54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  <p:cxnSp>
        <p:nvCxnSpPr>
          <p:cNvPr id="88" name="直接箭头连接符 5"/>
          <p:cNvCxnSpPr/>
          <p:nvPr/>
        </p:nvCxnSpPr>
        <p:spPr>
          <a:xfrm>
            <a:off x="3471840" y="2817360"/>
            <a:ext cx="432720" cy="54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  <p:cxnSp>
        <p:nvCxnSpPr>
          <p:cNvPr id="89" name="直接箭头连接符 18"/>
          <p:cNvCxnSpPr/>
          <p:nvPr/>
        </p:nvCxnSpPr>
        <p:spPr>
          <a:xfrm>
            <a:off x="3478320" y="4260600"/>
            <a:ext cx="434160" cy="39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  <p:sp>
        <p:nvSpPr>
          <p:cNvPr id="90" name="文本框 72"/>
          <p:cNvSpPr/>
          <p:nvPr/>
        </p:nvSpPr>
        <p:spPr>
          <a:xfrm>
            <a:off x="3898800" y="6545160"/>
            <a:ext cx="4565880" cy="246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提交出站所有材料，纸质版每人装一个档案袋，报送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303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办公室备案。博士后出站考核表报送至</a:t>
            </a:r>
            <a:r>
              <a:rPr b="0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106</a:t>
            </a:r>
            <a:r>
              <a:rPr b="0" lang="zh-CN" sz="1000" spc="-1" strike="noStrike">
                <a:solidFill>
                  <a:srgbClr val="000000"/>
                </a:solidFill>
                <a:latin typeface="黑体"/>
                <a:ea typeface="黑体"/>
              </a:rPr>
              <a:t>办公室工资科董婧婧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直接箭头连接符 20"/>
          <p:cNvCxnSpPr/>
          <p:nvPr/>
        </p:nvCxnSpPr>
        <p:spPr>
          <a:xfrm>
            <a:off x="3477960" y="6665760"/>
            <a:ext cx="432360" cy="57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7T00:22:36Z</dcterms:created>
  <dc:creator>Xiaohui Huang</dc:creator>
  <dc:description/>
  <dc:language>en-US</dc:language>
  <cp:lastModifiedBy>陈晨</cp:lastModifiedBy>
  <dcterms:modified xsi:type="dcterms:W3CDTF">2022-10-28T07:42:13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9F91AEDA1004DF3B517B3D095DBE1D3</vt:lpwstr>
  </property>
  <property fmtid="{D5CDD505-2E9C-101B-9397-08002B2CF9AE}" pid="3" name="KSOProductBuildVer">
    <vt:lpwstr>2052-11.1.0.12598</vt:lpwstr>
  </property>
</Properties>
</file>