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814-D193-4DCB-849B-C776E6D3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BADE-9903-48A6-BB98-B9ED50E6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EEC-89A5-4779-A9EA-DD22B08A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474-DED0-43C8-91A4-D7B9C309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FFE-99CD-4B0F-B52C-5CB67942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3ECA-01C5-4E9A-9B4B-BFE8107B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147-05A8-433E-8837-0246A6AD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AEB-F6AB-438B-8813-7A138605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A1C5-8D7E-46F4-AFDE-FA3F8105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979B-9587-4716-BE6E-7B6FA8D6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28D-5BBD-4B4C-ADF8-4AD9987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405-AE4F-4742-B5CC-5D9EEC1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356-330D-45AA-B13B-BC7BA39DA8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076480" y="54936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二级单位提交相关材料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2076480" y="109692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校人事处审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箭头连接符 19"/>
          <p:cNvCxnSpPr/>
          <p:nvPr/>
        </p:nvCxnSpPr>
        <p:spPr>
          <a:xfrm>
            <a:off x="3033720" y="1397160"/>
            <a:ext cx="720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TextBox 12"/>
          <p:cNvSpPr/>
          <p:nvPr/>
        </p:nvSpPr>
        <p:spPr>
          <a:xfrm>
            <a:off x="2117880" y="167940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向上级领导汇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直接箭头连接符 21"/>
          <p:cNvCxnSpPr/>
          <p:nvPr/>
        </p:nvCxnSpPr>
        <p:spPr>
          <a:xfrm>
            <a:off x="3033720" y="1944720"/>
            <a:ext cx="720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直接箭头连接符 29"/>
          <p:cNvCxnSpPr/>
          <p:nvPr/>
        </p:nvCxnSpPr>
        <p:spPr>
          <a:xfrm>
            <a:off x="3025800" y="2478240"/>
            <a:ext cx="864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TextBox 12"/>
          <p:cNvSpPr/>
          <p:nvPr/>
        </p:nvSpPr>
        <p:spPr>
          <a:xfrm>
            <a:off x="2076480" y="221292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人才论证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箭头连接符 39"/>
          <p:cNvCxnSpPr/>
          <p:nvPr/>
        </p:nvCxnSpPr>
        <p:spPr>
          <a:xfrm>
            <a:off x="3025800" y="2991960"/>
            <a:ext cx="8640" cy="25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TextBox 12"/>
          <p:cNvSpPr/>
          <p:nvPr/>
        </p:nvSpPr>
        <p:spPr>
          <a:xfrm>
            <a:off x="2076480" y="272736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上校长办公会和党委常委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接箭头连接符 41"/>
          <p:cNvCxnSpPr/>
          <p:nvPr/>
        </p:nvCxnSpPr>
        <p:spPr>
          <a:xfrm>
            <a:off x="3025800" y="3516480"/>
            <a:ext cx="864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TextBox 12"/>
          <p:cNvSpPr/>
          <p:nvPr/>
        </p:nvSpPr>
        <p:spPr>
          <a:xfrm>
            <a:off x="2076480" y="325116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通知二级机构结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直接箭头连接符 43"/>
          <p:cNvCxnSpPr/>
          <p:nvPr/>
        </p:nvCxnSpPr>
        <p:spPr>
          <a:xfrm>
            <a:off x="3025800" y="4030200"/>
            <a:ext cx="8640" cy="25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Box 12"/>
          <p:cNvSpPr/>
          <p:nvPr/>
        </p:nvSpPr>
        <p:spPr>
          <a:xfrm>
            <a:off x="2076480" y="376560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签订合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接箭头连接符 45"/>
          <p:cNvCxnSpPr/>
          <p:nvPr/>
        </p:nvCxnSpPr>
        <p:spPr>
          <a:xfrm>
            <a:off x="3025800" y="4545000"/>
            <a:ext cx="864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Box 12"/>
          <p:cNvSpPr/>
          <p:nvPr/>
        </p:nvSpPr>
        <p:spPr>
          <a:xfrm>
            <a:off x="2076480" y="428004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兑现待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076480" y="4794120"/>
            <a:ext cx="195084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中期考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2076480" y="5308560"/>
            <a:ext cx="1949400" cy="26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聘期考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6"/>
          <p:cNvSpPr/>
          <p:nvPr/>
        </p:nvSpPr>
        <p:spPr>
          <a:xfrm>
            <a:off x="4506840" y="549360"/>
            <a:ext cx="436716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相关表格在学校人事处网站下载中心栏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接箭头连接符 57"/>
          <p:cNvCxnSpPr/>
          <p:nvPr/>
        </p:nvCxnSpPr>
        <p:spPr>
          <a:xfrm>
            <a:off x="3019320" y="812520"/>
            <a:ext cx="7200" cy="25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直接箭头连接符 60"/>
          <p:cNvCxnSpPr>
            <a:endCxn id="61" idx="1"/>
          </p:cNvCxnSpPr>
          <p:nvPr/>
        </p:nvCxnSpPr>
        <p:spPr>
          <a:xfrm flipV="1">
            <a:off x="4068360" y="4168800"/>
            <a:ext cx="438840" cy="26820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62" name="直接箭头连接符 68"/>
          <p:cNvCxnSpPr>
            <a:endCxn id="63" idx="1"/>
          </p:cNvCxnSpPr>
          <p:nvPr/>
        </p:nvCxnSpPr>
        <p:spPr>
          <a:xfrm>
            <a:off x="4068720" y="4436640"/>
            <a:ext cx="440280" cy="24696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61" name="文本框 71"/>
          <p:cNvSpPr/>
          <p:nvPr/>
        </p:nvSpPr>
        <p:spPr>
          <a:xfrm>
            <a:off x="4506840" y="4030560"/>
            <a:ext cx="436716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工资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办公室，董婧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2"/>
          <p:cNvSpPr/>
          <p:nvPr/>
        </p:nvSpPr>
        <p:spPr>
          <a:xfrm>
            <a:off x="4508640" y="4545000"/>
            <a:ext cx="436536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放科研启动经费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办公室，高杉、陈晨，电话：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172106,651710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84"/>
          <p:cNvSpPr/>
          <p:nvPr/>
        </p:nvSpPr>
        <p:spPr>
          <a:xfrm>
            <a:off x="4178160" y="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柔性引进人才流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4554360" y="2727360"/>
            <a:ext cx="4319640" cy="276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级学院负责人需列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直接箭头连接符 3"/>
          <p:cNvCxnSpPr>
            <a:stCxn id="49" idx="3"/>
            <a:endCxn id="63" idx="1"/>
          </p:cNvCxnSpPr>
          <p:nvPr/>
        </p:nvCxnSpPr>
        <p:spPr>
          <a:xfrm>
            <a:off x="4027320" y="2858040"/>
            <a:ext cx="481680" cy="182556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67" name="直接箭头连接符 4"/>
          <p:cNvCxnSpPr>
            <a:stCxn id="49" idx="3"/>
            <a:endCxn id="63" idx="1"/>
          </p:cNvCxnSpPr>
          <p:nvPr/>
        </p:nvCxnSpPr>
        <p:spPr>
          <a:xfrm>
            <a:off x="4027320" y="2858040"/>
            <a:ext cx="481680" cy="182556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68" name="直接箭头连接符 5"/>
          <p:cNvCxnSpPr>
            <a:stCxn id="49" idx="3"/>
            <a:endCxn id="63" idx="1"/>
          </p:cNvCxnSpPr>
          <p:nvPr/>
        </p:nvCxnSpPr>
        <p:spPr>
          <a:xfrm>
            <a:off x="4027320" y="2858040"/>
            <a:ext cx="481680" cy="182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文本框 1"/>
          <p:cNvSpPr/>
          <p:nvPr/>
        </p:nvSpPr>
        <p:spPr>
          <a:xfrm>
            <a:off x="90360" y="77760"/>
            <a:ext cx="1673280" cy="276480"/>
          </a:xfrm>
          <a:prstGeom prst="rect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院汇同教研室组织专家组组织考核，根据考核结果初步拟定人才等级、工作任务和待遇，并经专家签字确认留存备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接箭头连接符 2"/>
          <p:cNvCxnSpPr>
            <a:stCxn id="49" idx="3"/>
            <a:endCxn id="63" idx="1"/>
          </p:cNvCxnSpPr>
          <p:nvPr/>
        </p:nvCxnSpPr>
        <p:spPr>
          <a:xfrm>
            <a:off x="4027320" y="2858040"/>
            <a:ext cx="481680" cy="1825560"/>
          </a:xfrm>
          <a:prstGeom prst="straightConnector1">
            <a:avLst/>
          </a:prstGeom>
          <a:ln w="1260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1" name="文本框 6"/>
          <p:cNvSpPr/>
          <p:nvPr/>
        </p:nvSpPr>
        <p:spPr>
          <a:xfrm>
            <a:off x="2076480" y="66600"/>
            <a:ext cx="1949400" cy="2613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黑体"/>
                <a:ea typeface="黑体"/>
              </a:rPr>
              <a:t>二级单位考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直接箭头连接符 7"/>
          <p:cNvCxnSpPr>
            <a:stCxn id="49" idx="3"/>
            <a:endCxn id="63" idx="1"/>
          </p:cNvCxnSpPr>
          <p:nvPr/>
        </p:nvCxnSpPr>
        <p:spPr>
          <a:xfrm>
            <a:off x="4027320" y="2858040"/>
            <a:ext cx="481680" cy="182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5T08:33:53Z</dcterms:created>
  <dc:creator>lenovo</dc:creator>
  <dc:description/>
  <dc:language>en-US</dc:language>
  <cp:lastModifiedBy>lenovo</cp:lastModifiedBy>
  <dcterms:modified xsi:type="dcterms:W3CDTF">2020-12-18T03:36:0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228</vt:lpwstr>
  </property>
</Properties>
</file>